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3C800-5EDC-412A-8CD5-3AA8D5F5A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F31BE-A6CB-4BC3-AF4C-99BF61A04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89C9E-B6A3-4EEE-A45A-85A096BAB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2011C-8C7E-403B-A4C6-15F13815D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9688F-22D3-4697-8F02-5635D916D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5DDF5-A8A2-45A5-B5F2-2B2EF18B7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DBA9C-6662-47E1-ADDC-40CEBBC8C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F1DC8-AA7E-4E63-BB58-B8FD1C681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9D783-7E8E-49C3-99B8-AC53FE815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5BB94-7C0F-4AB6-99C3-1F76F4839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97E5E-AFAA-4147-BCE4-2AC3F84B5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3AD00-C5AD-4F7A-A189-CE6E22C14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2BE6F-C122-43A3-8C20-89340E537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A0644-DF02-4BE8-938E-C807F7414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58D4C-CB1D-4CED-A877-73A84BE2D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1F55F-06DF-4D0D-A6BC-AFB4DBB3A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B4B18-FE4C-4856-990F-0068196EA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F94E2-0FCF-43CE-ABBD-924CE3490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60A99-5CCF-4D48-84F3-F5827C72D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51723-6140-4E47-8B1D-0AFE056CC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D19DE-93CA-4AF4-AC78-52DD566DF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7F3F2-9759-4803-B38C-F43B56E2F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9F0B0-21CA-48E8-AE6A-385DF58B4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663DD-1700-4976-8F34-CDAF21002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F4BEB-FFA5-4EAD-B656-2728E2445DD0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BBC99-84C1-42E3-9125-8040F2D5E2E5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Unit 2:  Sense of Self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Race and Ethnicity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tage Model criticism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oo simplistic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verlook the likelihood a person’s ethnic identity evolves and changes over tim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n individual may be at more than one stage at a tim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ail to explore the role of racism in the formation of ethnic identit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cculturation Theor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Uses labels or categories to describe how a person integrates their ethnic group identity with attitudes towards the larger societ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Sue &amp; Sue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– Use labels in their study of the acculturation of individuals of Asian descen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raditionalist”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arginal”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sian American”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“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raditionalist”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3276720" y="4038480"/>
            <a:ext cx="2514600" cy="25146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6248520" y="3124080"/>
            <a:ext cx="2133360" cy="2743200"/>
          </a:xfrm>
          <a:prstGeom prst="wedgeEllipseCallout">
            <a:avLst>
              <a:gd name="adj1" fmla="val -104837"/>
              <a:gd name="adj2" fmla="val -6134"/>
            </a:avLst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248520" y="3962520"/>
            <a:ext cx="198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Foreign bor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615120" y="2045880"/>
            <a:ext cx="1609200" cy="139464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Strongly accepts parental cultural value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990720" y="3048120"/>
            <a:ext cx="2133360" cy="2743200"/>
          </a:xfrm>
          <a:prstGeom prst="wedgeEllipseCallout">
            <a:avLst>
              <a:gd name="adj1" fmla="val 84819"/>
              <a:gd name="adj2" fmla="val -1851"/>
            </a:avLst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295280" y="3809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447200" y="3352680"/>
            <a:ext cx="16923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Tend to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socialize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with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member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of their own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ethnic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group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“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Marginal “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3276720" y="3962520"/>
            <a:ext cx="2435040" cy="243504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2590920" y="1600200"/>
            <a:ext cx="2438280" cy="1981080"/>
          </a:xfrm>
          <a:prstGeom prst="wedgeEllipseCallout">
            <a:avLst>
              <a:gd name="adj1" fmla="val 13736"/>
              <a:gd name="adj2" fmla="val 69953"/>
            </a:avLst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Wants to assimilate into American cultur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105520" y="1981080"/>
            <a:ext cx="2286000" cy="1981440"/>
          </a:xfrm>
          <a:prstGeom prst="wedgeEllipseCallout">
            <a:avLst>
              <a:gd name="adj1" fmla="val -63263"/>
              <a:gd name="adj2" fmla="val 53925"/>
            </a:avLst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Rejects Asian value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33520" y="3276720"/>
            <a:ext cx="2819160" cy="1981080"/>
          </a:xfrm>
          <a:prstGeom prst="wedgeEllipseCallout">
            <a:avLst>
              <a:gd name="adj1" fmla="val 65486"/>
              <a:gd name="adj2" fmla="val -2564"/>
            </a:avLst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Tends to socialize with “Caucasian Americans”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638680" y="3962520"/>
            <a:ext cx="2590920" cy="2209680"/>
          </a:xfrm>
          <a:prstGeom prst="wedgeEllipseCallout">
            <a:avLst>
              <a:gd name="adj1" fmla="val -75365"/>
              <a:gd name="adj2" fmla="val -29814"/>
            </a:avLst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Little ethnic identity associated with Asian cultur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“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sian Americans”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066680" y="3352680"/>
            <a:ext cx="2359080" cy="23590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200400" y="2438280"/>
            <a:ext cx="5105520" cy="2362320"/>
          </a:xfrm>
          <a:prstGeom prst="wedgeEllipseCallout">
            <a:avLst>
              <a:gd name="adj1" fmla="val -65175"/>
              <a:gd name="adj2" fmla="val -9208"/>
            </a:avLst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Have achieved balance and pride in their ethnic identity by combining traditional Asian values with Western influence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cculturation Theory Criticism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thnic identity is oversimplifie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ails to consider such factors as age, generation and gender within an ethnic identit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Labels may be limiting and demeanin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ay contribute to stereotyping and overgeneralization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sian Self-Concep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Christine Yeh and Karen Huang, 1996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.  - studied factors unique to Asian culture resulting in an Asian ethnic identity that is unique form Europeans and North American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sian Self-Concep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sian subjects more concerned about how their actions would be judged by family and communit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 strong interdependence between the individual and the community illustrates the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collectivistic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nature of Asian culture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Loss of face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” is when one fails to fulfill the expectations they have of themselves – Shame that results from this is magnified since it is shared by the family. The consequence (usually exclusion) of this shame is particularly painful in a collectivistic culture – used as a negative rein forcer during child-rear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thnicit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4419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Ethnicity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:  the relation of an individual to a group with whom that individual believes he /she has common ancestr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hared socio-cultural experience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erms include such examples as “French”, “British”, “Dutch”…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Video – ‘My Big Fat Greek Wedding’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5181480" y="2590920"/>
            <a:ext cx="3505320" cy="31636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6327360" y="5638680"/>
            <a:ext cx="205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Ethnic stereotype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ac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Race: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 Associated with common descent or origin of a group.  Usually characterized by physical traits.  E.g. skin colour, hair texture, eye shap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19</a:t>
            </a:r>
            <a:r>
              <a:rPr b="0" lang="en-US" sz="2000" spc="-1" strike="noStrike" baseline="30000">
                <a:solidFill>
                  <a:srgbClr val="003366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Century anthropological terms used to categorize human racial types (Negroid, Caucasoid, Mongoloid and Australoid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648320" y="533520"/>
            <a:ext cx="3946320" cy="55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447920" y="2362320"/>
            <a:ext cx="6553080" cy="418284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1447920" y="4952880"/>
            <a:ext cx="662940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…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it has no validity as a biological category in the human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pecies… Scientific studies clearly demonstrate that human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populations are not unambiguous, clearly separated, biologically distinct group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90720" y="2362320"/>
            <a:ext cx="739116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997  (American Anthropological Association) Drafted a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tatement  regarding  the term “rac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126800" y="1109520"/>
            <a:ext cx="346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Race Continued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“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ace” Implication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Race” is a set of culturally created attitudes towards, and beliefs about, human difference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ese attitudes and beliefs about “Race” (products of the 19</a:t>
            </a:r>
            <a:r>
              <a:rPr b="0" lang="en-US" sz="2000" spc="-1" strike="noStrike" baseline="30000">
                <a:solidFill>
                  <a:srgbClr val="003366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Century) led to prejudgments that distort our ideas about human differences and behaviour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(American Anthropological Association) completed its statement by saying that “present-day inequalities are not consequences of biological inheritance but rather they are the result of social, economic, educational and political circumstance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038480" y="358128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Theories of Ethnic Identity Formation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ow do concepts of ethnic identity develop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o they remain constant throughout a person’s lifetime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xplored through the </a:t>
            </a:r>
            <a:r>
              <a:rPr b="1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Stage Model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theoretical framework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tage Model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ssumes ethnic identity develops as people resolve conflicts at different stages of their lif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nflicts at lower levels must be resolved before the next stage can be achieve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tage Model Continue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Atkinson, Morten, &amp; Sue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– Proposed that minority identity development follows 5 stages (Study on American Minorities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066680" y="3581280"/>
            <a:ext cx="1447920" cy="16765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Conformit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666880" y="3886200"/>
            <a:ext cx="1447920" cy="16765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Dissonanc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267080" y="4114800"/>
            <a:ext cx="1447920" cy="16765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esistance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and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Immersio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867280" y="4419720"/>
            <a:ext cx="1447920" cy="16761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Introspectio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467480" y="4800600"/>
            <a:ext cx="1447920" cy="16765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ynergistic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Articulation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and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Awarenes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638680" y="4800600"/>
            <a:ext cx="38124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962520" y="4419720"/>
            <a:ext cx="38088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4267080"/>
            <a:ext cx="38124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238880" y="5029200"/>
            <a:ext cx="38124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tage Model Continue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Conformity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– individual sides with dominant cultur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Dissonance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– individual is confused over the conflict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Resistance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and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Immersion –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individual rejects the dominant system and accepts their own cultural traditions / culture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Introspection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– individual questions the values of both minority and majority cultur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Synergistic Articulation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and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 Awareness –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individual resolves previous conflicts and develops a cultural identity that combines elements from both culture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30T18:54:37Z</dcterms:created>
  <dc:creator>Administrator</dc:creator>
  <dc:description/>
  <dc:language>en-US</dc:language>
  <cp:lastModifiedBy>Customer</cp:lastModifiedBy>
  <dcterms:modified xsi:type="dcterms:W3CDTF">2010-09-24T18:09:18Z</dcterms:modified>
  <cp:revision>8</cp:revision>
  <dc:subject/>
  <dc:title>Unit 2:  Sense of Self</dc:title>
</cp:coreProperties>
</file>